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F19-BA2C-49F5-829E-11518874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6E5-179C-4515-984F-7F23E69B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138-5C99-41C9-87D0-EF81D769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53D-2FAE-4BC9-BF91-D447B069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1FE-4CE3-4E0F-80F7-550881F5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483-19A0-4E06-BC82-AEA0C91B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F51-FC16-417D-8624-F2F395BA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A87-F88B-43D2-9B46-3F8230AF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7F5-B861-4071-AC01-2E1D4044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1EB-B3F3-4E11-935B-1303FE18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5C0-A9CA-4B92-9243-A900CC73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F00-6396-4171-80B9-4DD8366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943A-3370-42BD-AF49-72D667879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74600"/>
            <a:ext cx="20318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 كل شيء تعطى كل شيء واحمل الصلي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تجد الراحة والهدو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لن يخ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ظنك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05720" y="174600"/>
            <a:ext cx="2031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ما أقمتَ أقيمُ أنا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ن يغ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جهي 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إني اخترتك لي عون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على يدعوكَ تعال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</a:t>
            </a: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361800"/>
            <a:ext cx="20080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نظرتُ في عينيكَ وأحببتكَ عرفتُ ما في قلبكَ 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أرضكَ العطشىَ للحبِ والسلام تصرخُ إليك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4:26:18Z</dcterms:created>
  <dc:creator>USER</dc:creator>
  <dc:description/>
  <dc:language>en-US</dc:language>
  <cp:lastModifiedBy>USER</cp:lastModifiedBy>
  <dcterms:modified xsi:type="dcterms:W3CDTF">2003-01-21T11:10:49Z</dcterms:modified>
  <cp:revision>2</cp:revision>
  <dc:subject/>
  <dc:title>PowerPoint Presentation</dc:title>
</cp:coreProperties>
</file>